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chimes.wav" ContentType="audio/x-wav"/>
  <Override PartName="/ppt/media/type.wav" ContentType="audio/x-wav"/>
  <Override PartName="/ppt/media/laser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A955-2F7A-4B50-9F44-DE1C55D75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A4F5-270F-42EF-8DCA-8F06EE5F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3AB7-5932-4427-8E01-A245F9C5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3159-62B6-4F2F-B918-388A6A61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94D1-164C-4E9F-856B-CD485B780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4020-0767-4204-BED9-D750F281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5448-3642-4341-8CAC-10FB9324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9CDD-76C3-4917-97DF-1A3631C9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CAB0-CBBC-4A31-B13C-1202E34D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5411-F0A2-4005-B3D6-14226219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A5A7-EF30-413E-BCD4-FB1A2AC6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1B7C-BB1F-4AF4-ADA3-CCC9946F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3EB5-81DE-447C-9936-233ECBF4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6B78-8AE1-4811-9B4E-83144FC4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03EB-54FA-4C88-B898-86FBEE09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EEA5-B206-41B5-AA5E-3B0EA542B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110C-B6C6-4FF3-AEAF-AD50C9C35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5F4F6-5E55-43E5-8EF5-89D4222B8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E357C-C0F0-4DFE-8E6B-56DD9F83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D2C36-3619-4524-8816-8D27E742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2F0A1-CB4A-4C50-B744-18377BFC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5E8B2-29FE-4BD9-8B5B-5FFC92AB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B4DA-5C92-445B-BB9F-72A8EABA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B2500-1D5D-44CE-BD13-88D4B7DC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E3EFB-88C6-4323-B885-18D44661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C8FD7-0733-45D1-8390-1B82AED5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896C9-0DFC-45C4-A5D3-097C14F7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4572B-78A0-45C2-A397-F25E2BA3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C64B4-6CBE-4ADF-AE41-CAC5EC045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63D28-2B38-4306-B850-6F715C0E3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6FAD-C463-4770-8234-2C8933BA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749B-DF1E-40CD-B573-421856C5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B91A-E2DD-40C0-AF3D-D37BE933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960A-46B3-4CAE-BBAE-58E23396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2C01-91E7-4E04-82FC-C5207203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3443-C7D6-450A-8C36-F1E3CD44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D26A-D2FF-4795-9DE0-483AE0A2FC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7522-ED22-43C8-BF70-CE712F120FF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1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2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95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E587-F2DF-4BD9-9725-5390CB1E4EF0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063240" y="1019160"/>
            <a:ext cx="319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主题班会课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95600" y="4067280"/>
            <a:ext cx="1843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0880" y="304920"/>
            <a:ext cx="7793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为什么学礼仪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1371600"/>
            <a:ext cx="69706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对个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不学礼，无以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使个人的言行在社会活动中与其身份、地位、社会角色相适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衡量个人道德水准高低和有无教养的尺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46280" y="4267080"/>
            <a:ext cx="824544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对社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塑造组织形象，提高办事效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是一个国家文明程度、道德风尚和生活习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的反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76520" y="0"/>
            <a:ext cx="626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  <a:ea typeface="隶书"/>
              </a:rPr>
              <a:t>礼仪的内涵与实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9144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内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9144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、礼仪是人内在的文化、艺术、道德、思想素质的外在表现形式。凡是把人内心待人接物的尊敬之意，以令人愉快的方式通过美好的仪表形式、规范的言谈举止表达出来，就是礼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03280" y="350532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、礼仪是指人们在各种社会交往活动中形成的用以美化自身、完善自我、修身养性、敬重他人的约定俗成的行为规范与准则。具体体现为：礼貌、礼节、仪表、仪式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5867280"/>
            <a:ext cx="11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实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47640" y="586728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尊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849600" y="0"/>
            <a:ext cx="29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一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学生应有的仪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7760" y="861840"/>
            <a:ext cx="197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仪容服饰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1752480"/>
            <a:ext cx="778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脸必净、发必理、衣必整、纽必结。头容正、肩容平、胸容宽、背容直。气象勿傲、勿暴、勿怠，颜色宜静、宜和、宜庄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4600" y="3505320"/>
            <a:ext cx="21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仪表举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4191120"/>
            <a:ext cx="809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我们往往可以从一个人的仪态来判断他的品格、学识、能力和其他方面的修养程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仪态举止包括：站、坐、行的姿势，与人交谈的态度、说话的声音、风度气质、行为动作、面部表情、卫生习惯等等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143800" y="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二、课堂教学礼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806400"/>
            <a:ext cx="862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在教室门口先喊“报告”。如教室门关着，那就应是轻轻叩门；在得到老师允许后，才能进入教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979640"/>
            <a:ext cx="87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走向座位时，速度要快，脚步要轻，动作幅度要小，尽量不要发出太大的响声，更不要有任何滑稽可笑的举止。坐下后，应立即集中注意力听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397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回答问题时，站姿、表情要大方，不要搔首弄姿或故意做出滑稽的举止引人发笑，说话声音要响亮、清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4419720"/>
            <a:ext cx="839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4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对提的问题答不出，也应先站起来，再用抱歉的语调实事求是地向老师说清楚，不要不站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5562720"/>
            <a:ext cx="794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在别人回答时，不应随便插嘴，别人答错了，也不应讥讽嘲笑，自己能答，可举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68920" y="320760"/>
            <a:ext cx="304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三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学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生在校内外的礼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219320"/>
            <a:ext cx="809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●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学生在宿舍中的礼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寝室是反映学生精神文明和礼仪修养的一个窗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对住校的学生来说，因为寝室是他们主要生活环境之一，它的面貌，在一定程度上能体现和反映出这些学生的文化修养和思想修养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8560" y="373392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●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学生与教师间的礼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8200" y="4408560"/>
            <a:ext cx="299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师生校内外相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1080" y="5562720"/>
            <a:ext cx="210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师生谈话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815200" y="324000"/>
            <a:ext cx="58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四、男女同学接触的礼仪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523880"/>
            <a:ext cx="862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异性同学间，特别应注意以礼相待，相互平等，相互尊重、帮助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9718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对异性同学不宜过分亲昵。异性同学接触除不宜过分亲昵外，更不应早恋。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61760" y="4281480"/>
            <a:ext cx="7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正确处理好同学聚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356480" y="-76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五、集会礼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29840" y="4572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六、有教养者十大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-92160" y="1219320"/>
            <a:ext cx="9236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）守时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）谈吐有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）态度和蔼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）语气中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注意交谈技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不自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信守诺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关怀他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大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富有同情心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09560" y="1019160"/>
            <a:ext cx="5209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礼仪修养是现代人必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具备的基本素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39520" y="4114800"/>
            <a:ext cx="380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宋体"/>
              </a:rPr>
              <a:t>有“礼”走遍天下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131200" y="923760"/>
            <a:ext cx="4707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宋体"/>
              </a:rPr>
              <a:t>礼仪是人类文明的标尺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宋体"/>
              </a:rPr>
              <a:t>礼仪是美好心灵的展现。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3429000"/>
            <a:ext cx="832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作为一个有理想、有追求的现代人，注重礼仪的自我修养，即在学习礼仪、运用礼仪中，对仪容、举止、表情、服饰、谈吐和待人接物等六个方面，都能展现出一个人的教养。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71640" y="692280"/>
            <a:ext cx="756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3720" y="1125360"/>
            <a:ext cx="4590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85800"/>
            <a:ext cx="91440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一个人走进酒店要了酒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吃完摸摸口袋发现忘带钱了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便对老板说“店家今日忘带钱了，改日送来”店老板连声“不碍事，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不碍事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”并恭敬地把他送出了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这个过程被一个无赖给看见了，他也进了饭店要了酒菜，吃完后摸了一下口袋对店老板说“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店家今日忘带钱了，改日送来”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谁知店老板脸色一变，揪住他，非剥他的衣服不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无赖不服说：“为什么刚才那人可以记帐，我就不行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酒 店 老 板 与 无 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38080" y="22860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店家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121932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“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人家吃饭，筷子在桌子上找齐，喝酒一盅盅地筛，斯斯文文，吃罢掏出手绢揩嘴，是个有德行的人，岂能赖我几个钱，你呢？筷子在胸前找齐，狼吞虎咽，吃上瘾来，脚踏上条凳，端起酒壶直往嘴里灌，吃罢用袖子揩嘴，分明是个居无定室，食无定餐的无赖之徒，我岂能饶你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一席话，说得无赖垭口无言，只得留下外衣，狼狈而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609480"/>
            <a:ext cx="8305920" cy="24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ahoma"/>
              </a:rPr>
              <a:t>　　</a:t>
            </a:r>
            <a:r>
              <a:rPr b="1" lang="zh-CN" sz="5400" spc="-1" strike="noStrike">
                <a:solidFill>
                  <a:srgbClr val="ffffff"/>
                </a:solidFill>
                <a:latin typeface="Tahoma"/>
                <a:ea typeface="华文琥珀"/>
              </a:rPr>
              <a:t>一个人的行为好似一面镜子，反映出他的文化蕴涵，知识水准和道德修养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791320" y="0"/>
            <a:ext cx="2158920" cy="11444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09480" y="0"/>
            <a:ext cx="446400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修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是第二张毕业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55736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f01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一个中国留学生曾到英国留学，住在一个叫坎贝尔的老人家里。坎贝尔夫妇待人热情大方，他们只是象征性地收留学生几英镑的房租。没过几天，这位留学生就感觉坎贝尔先生对他的态度有些转冷。一天晚上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点多他从学校回来，洗漱完毕刚想脱衣睡觉，坎贝尔先生蹑手蹑脚地走进他的房间，说道：“孩子，你们中国人，半夜回家时，不管父母睡没睡觉都使劲关门，噼劈啪啪地走路和大声咳嗽吗？我太太有失眠症你每次晚上回来都会吵醒她，而她一旦醒来就很难再睡着。因此，以后你晚上回来如果能安静些，我将会非常高兴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09480" y="3049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不久后的一天中午，这个留学生从学校回来刚坐下，坎贝尔先生就说：“孩子你小便的时候是不是不掀开马桶的垫子？这怎么行？难道你不知道那样会把尿液溅到垫子上吗？这不仅仅是不卫生，还是对别人的不尊重！”坎贝尔愈发激动：“替别人着想，顾及和尊重别人，这是一个人最起码的修养，而修养正是体现在小事上。孩子考取学位和谋得一个好的职位固然重要，但与人相处，良好的习惯和修养同样重要。如果说学位、职位代表一个人身份的话，那么，习惯和修养就是人的第二身份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16000" y="620640"/>
            <a:ext cx="748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华文隶书"/>
              </a:rPr>
              <a:t>当你走出家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华文隶书"/>
              </a:rPr>
              <a:t>         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华文隶书"/>
              </a:rPr>
              <a:t>肩上就扛着家庭的荣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华文隶书"/>
              </a:rPr>
              <a:t>当你走出校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华文隶书"/>
              </a:rPr>
              <a:t>         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华文隶书"/>
              </a:rPr>
              <a:t>肩上就扛着学校的荣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华文隶书"/>
              </a:rPr>
              <a:t>当你走出国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华文隶书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华文隶书"/>
              </a:rPr>
              <a:t>肩上就扛着国家的荣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17:01:49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49:59Z</dcterms:modified>
  <cp:revision>1</cp:revision>
  <dc:subject>主题班会课件(分28大类): http://shop62905894.taobao.com</dc:subject>
  <dc:title>主题班会课件(分28大类): http://shop62905894.taobao.com</dc:title>
</cp:coreProperties>
</file>